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A8F-107E-48F3-BACD-AB69B436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F1D-6C20-497A-9A69-3C775EDD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CF5-A6D3-4DE7-922D-A76EC907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0A8-A0B5-4C61-B813-698D45B0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425-BAA7-4246-A76C-FD414AE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185-B0C6-46FC-A6FD-1AA7FF2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7F6-465A-44B9-9B03-51B090D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F16-1D35-43C0-9225-5806930F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8B1-0817-4907-9067-85C9D7AE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3BE-5B02-4454-88A9-51B9CD7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BEA-9665-4CED-ABD1-6A4C3C8B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106-1E27-4465-A654-FC7E362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4682C-B9CF-423B-B836-3F9DDEDF70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521CE-32BE-4301-A43C-582B7CBB2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ich organelle contains DNA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200" spc="-1" strike="noStrike" u="sng">
                <a:solidFill>
                  <a:srgbClr val="000000"/>
                </a:solidFill>
                <a:uFillTx/>
                <a:latin typeface="Calibri"/>
              </a:rPr>
              <a:t>3.4 DNA Class Notes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DNA is a very large molecule that contains the instructions for how things should look and work in an organism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A gene is a small piece of DNA that determines a trait.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Traits are things about an organism’s appearance.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: AAGC = Rattlesnak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lor: AAGG = G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ze: TTGA = B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ender: AACC = Ma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: GGCD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lor: TCGA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ze: CCTG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ender: TAGG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3:28Z</dcterms:created>
  <dc:creator>Caroline Roth</dc:creator>
  <dc:description/>
  <dc:language>en-US</dc:language>
  <cp:lastModifiedBy>Caroline Roth</cp:lastModifiedBy>
  <dcterms:modified xsi:type="dcterms:W3CDTF">2011-05-24T01:21:09Z</dcterms:modified>
  <cp:revision>4</cp:revision>
  <dc:subject/>
  <dc:title>3.4 DNA Class Notes</dc:title>
</cp:coreProperties>
</file>